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4711-36FF-488F-A7C1-FF9B725E0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456D-1CD2-4231-95CD-D93D187A7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BB59-55ED-4DC4-8D88-A019EB00B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DBBF-8517-49C2-A33F-AC07D52AF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7953-FB33-46A9-892B-C10CDA9DD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8BE7-CF41-43DB-B226-AA2022BC3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A9D7-4078-498C-B419-A4DD843DC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799-73EF-475B-AE92-E6FFE147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288-E94D-419A-8F0F-83F6C3FA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FAB-26E5-4A46-91D7-B28CFB56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54E-20C3-4398-98A2-5AD13C15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F07D-7B7D-440A-A4B1-FAB65B70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31AA-FB66-412E-9246-BB97274D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FE23-ABA3-4477-B53E-E35E5B97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832E-EAF1-42F1-8458-BD42308F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7150-46DB-4671-ACEB-3455BA7B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D58D-E2F6-4DE6-AEC1-05EA7473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69DE-B5E2-4D57-826F-D7046DA9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BC6-832C-4AAF-8E5E-91B3F33D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F7D2-059C-4B75-826F-6C32A2FD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51A1-67F6-42FD-9C14-BDDFF108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E7E9-9C04-4F31-885D-C9386D2E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89AD-D339-48E4-B331-A09FBF95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06C1-DDE2-41AB-AA45-E2C3D35C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8FFF9-6619-4B69-898D-5DDFA77C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5939-C2C1-443C-89B5-F7495F65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6BC06-0BCD-41C1-885F-67EA4DB1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8B95-746D-4E29-9677-C2EA7EE6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4986-4E48-4342-9866-028BE5D4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197-04AB-40A7-99C9-A0F68FCA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6400-E758-4A8B-84D3-D2DBE534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90B3-6FE6-478E-8B92-9E645A32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C8D9E-0E4D-4CB2-A71D-DCDE514D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EAFF-9F79-42F5-BF98-910EE138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CC7A-DAF6-4925-BF25-CCE5AAE7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817E-062F-4B79-9AED-88F8FBBD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BBE22-D683-447F-A8ED-E715A903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1D59-F12A-4F27-B1BA-CFDEB106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30231-15C4-4438-9FBA-315F6D3C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A438-E95F-4257-8823-7B0568C0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AF4-EE82-4D34-B1DC-60A1C3C9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8127A-9B9D-4478-B67E-3ECEEC35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69DA9-58B8-4E7D-BE26-9FDDDECF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3E27-7747-4DFC-88C0-D1FCA339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0FD24-A19A-46B1-9B3A-297B0479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C41BB-24AB-4AB9-BEDD-64A00E48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853C3-4D53-4B41-B419-BEAF9317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04451-A595-48AA-9A26-D4FCDDDF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096A2-CE0D-4A96-B544-EF09BE1F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97A51-20CC-4C56-8E3B-032EE190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EC089-5D6F-4750-9E3D-6280F935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FE8-9F6D-4DCA-98E4-5BAAD998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FCD0D-D878-46E0-9635-4AC758EB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A14CE-9F29-4B83-8C5B-293FD7C0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12BFA-CC63-4FAC-A584-4A0BCAB8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1A4B5-B06B-478D-9FF1-88E5611D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FEDE4-2849-4972-A730-EE9E2BDF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BFD7-495D-4FC8-BF62-A1233173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57913-C9B4-4C3B-89DB-5935B72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ADF81-1FAE-469A-A6DD-FAA8EE18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D25D1-ED62-414B-8830-D9D62D6B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14218-231C-4A6C-8755-C055C252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A32-7E3D-4C21-B482-803B4BDC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F7B1C-A898-4385-AC5F-76A555A3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EBE63-BD2A-45C5-9DF3-8ECD5968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F2C07-5D22-47CA-8BA5-6CF4F5DC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5A1A5-035C-4EA6-87C8-B87F8023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A0AF3-8F67-4BA8-8602-2DC0E1AF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6DA3D-7DD2-473A-84F9-32E238DE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DC51E-F13F-41CB-92D8-32805ED2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D05BB-3D0F-4E1E-B271-5989782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181BB-B80E-4D25-ABB9-BC2C0761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B07CA-60C3-42E5-AA12-9189D5E0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13B-AF46-46DC-BDA9-C8A81371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2989E-AFA7-49D7-BCF8-DE7AE84C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54BE7-3FC2-4728-AE1D-8A6C6261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CE3F-5088-4050-8ACC-A30CF126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0DCC3-1D4A-4727-8A68-D27D9943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2F55A-FD6F-4A73-B6A4-24E9C373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49688-D472-4D32-83CC-45A08B1E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06E1-1D62-465E-904F-D70DEBE9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39B03-CBA5-4874-BE57-476EA12D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7D146-8C92-41A0-B5D7-0EBE7069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96786-F9DC-4D66-9071-C89DD650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CE3-C4A1-4676-A70B-3DEB1225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28749-E633-494C-9707-42B8EEF8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DE569-61A7-4BCE-81C8-298490CF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B84AC-B4B4-46BE-A587-C4AB0A73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199BD-554A-4F86-871A-D9AD2C1B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D2E3D-D940-4ED3-93B5-77723E19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F231F-C88B-4E99-9051-2C29C5E5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EEBB8-147C-4F34-86E1-A0B48DC6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C36AD-37E2-47E5-A7F6-A0B92D24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DCC6D-CAFA-48BE-93D6-85AE86C8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A4CBD-B132-4275-97DD-415B242F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FA9-AC38-44BF-AC1A-04880026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96DC9-4152-40E6-9276-016AE2AE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4D7BB-A754-497C-9852-030B839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48FDE-7EE7-4FB7-8C8C-6EDC199C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21EC1-4C92-421A-A2D6-2A9BFE28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6A22D-DA8C-46E9-9D1C-25D35817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9E92B-AC1E-49A5-90CD-1F76B6B7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1660B-7FA4-4670-AEB5-0BAF48B7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D0E4-1453-4091-A081-5003AA14F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DB86-17A2-41A7-9132-30D05BB44B8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9B63-C9E3-4776-8909-5FA4482299F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CF77-67B3-4086-B7DB-E9E5C217A8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3F3E-E67E-47FB-A4F5-230B66C3448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E702-AA3B-4855-8329-1EBF6B407F1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2238-D200-48C7-B1CC-37A04E029DA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5346-6955-44EC-A645-A832408781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8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(5 set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, Hom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ne and the same; lik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ony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ogeniz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ocent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ogene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4" descr="homocentric.jpg"/>
          <p:cNvPicPr/>
          <p:nvPr/>
        </p:nvPicPr>
        <p:blipFill>
          <a:blip r:embed="rId2"/>
          <a:stretch/>
        </p:blipFill>
        <p:spPr>
          <a:xfrm>
            <a:off x="6095880" y="449568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homogenize.jpg"/>
          <p:cNvPicPr/>
          <p:nvPr/>
        </p:nvPicPr>
        <p:blipFill>
          <a:blip r:embed="rId3"/>
          <a:stretch/>
        </p:blipFill>
        <p:spPr>
          <a:xfrm>
            <a:off x="6172200" y="30492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homonym.jpg"/>
          <p:cNvPicPr/>
          <p:nvPr/>
        </p:nvPicPr>
        <p:blipFill>
          <a:blip r:embed="rId4"/>
          <a:stretch/>
        </p:blipFill>
        <p:spPr>
          <a:xfrm>
            <a:off x="1143000" y="2666880"/>
            <a:ext cx="289548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i, Hom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icid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ide-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o kill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osapie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icid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4" descr="homicde.jpg"/>
          <p:cNvPicPr/>
          <p:nvPr/>
        </p:nvPicPr>
        <p:blipFill>
          <a:blip r:embed="rId2"/>
          <a:stretch/>
        </p:blipFill>
        <p:spPr>
          <a:xfrm>
            <a:off x="6781680" y="5105520"/>
            <a:ext cx="2133720" cy="15811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omosapiens.jpg"/>
          <p:cNvPicPr/>
          <p:nvPr/>
        </p:nvPicPr>
        <p:blipFill>
          <a:blip r:embed="rId3"/>
          <a:stretch/>
        </p:blipFill>
        <p:spPr>
          <a:xfrm>
            <a:off x="1523880" y="3048120"/>
            <a:ext cx="22100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ydr, Hydr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a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a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ophob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oge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opla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4" descr="hydrant.jpg"/>
          <p:cNvPicPr/>
          <p:nvPr/>
        </p:nvPicPr>
        <p:blipFill>
          <a:blip r:embed="rId2"/>
          <a:stretch/>
        </p:blipFill>
        <p:spPr>
          <a:xfrm>
            <a:off x="1219320" y="495288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hydrogen.jpg"/>
          <p:cNvPicPr/>
          <p:nvPr/>
        </p:nvPicPr>
        <p:blipFill>
          <a:blip r:embed="rId3"/>
          <a:stretch/>
        </p:blipFill>
        <p:spPr>
          <a:xfrm>
            <a:off x="5257800" y="52578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ydrology.jpg"/>
          <p:cNvPicPr/>
          <p:nvPr/>
        </p:nvPicPr>
        <p:blipFill>
          <a:blip r:embed="rId4"/>
          <a:stretch/>
        </p:blipFill>
        <p:spPr>
          <a:xfrm>
            <a:off x="2743200" y="40384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hydrometer.jpg"/>
          <p:cNvPicPr/>
          <p:nvPr/>
        </p:nvPicPr>
        <p:blipFill>
          <a:blip r:embed="rId5"/>
          <a:stretch/>
        </p:blipFill>
        <p:spPr>
          <a:xfrm>
            <a:off x="8001000" y="2666880"/>
            <a:ext cx="523800" cy="142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hydrophobia.jpg"/>
          <p:cNvPicPr/>
          <p:nvPr/>
        </p:nvPicPr>
        <p:blipFill>
          <a:blip r:embed="rId6"/>
          <a:stretch/>
        </p:blipFill>
        <p:spPr>
          <a:xfrm>
            <a:off x="7391520" y="4952880"/>
            <a:ext cx="1609560" cy="1676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hydroplane.jpg"/>
          <p:cNvPicPr/>
          <p:nvPr/>
        </p:nvPicPr>
        <p:blipFill>
          <a:blip r:embed="rId7"/>
          <a:stretch/>
        </p:blipFill>
        <p:spPr>
          <a:xfrm>
            <a:off x="2971800" y="19810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hydroplanee.jpg"/>
          <p:cNvPicPr/>
          <p:nvPr/>
        </p:nvPicPr>
        <p:blipFill>
          <a:blip r:embed="rId8"/>
          <a:stretch/>
        </p:blipFill>
        <p:spPr>
          <a:xfrm>
            <a:off x="1066680" y="2895480"/>
            <a:ext cx="152424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hydrate.jpg"/>
          <p:cNvPicPr/>
          <p:nvPr/>
        </p:nvPicPr>
        <p:blipFill>
          <a:blip r:embed="rId9"/>
          <a:stretch/>
        </p:blipFill>
        <p:spPr>
          <a:xfrm>
            <a:off x="7467480" y="0"/>
            <a:ext cx="147636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yp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ss than usual; below or und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poactiv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podermic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rm-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kin)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-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 or pertaining to; like; connected with, etc)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pocritic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potens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pocri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*Hyper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than usu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3" name="Picture 4" descr="hypoactive.jpg"/>
          <p:cNvPicPr/>
          <p:nvPr/>
        </p:nvPicPr>
        <p:blipFill>
          <a:blip r:embed="rId2"/>
          <a:stretch/>
        </p:blipFill>
        <p:spPr>
          <a:xfrm>
            <a:off x="2819520" y="4648320"/>
            <a:ext cx="2361960" cy="1981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hypodermic.jpg"/>
          <p:cNvPicPr/>
          <p:nvPr/>
        </p:nvPicPr>
        <p:blipFill>
          <a:blip r:embed="rId3"/>
          <a:stretch/>
        </p:blipFill>
        <p:spPr>
          <a:xfrm>
            <a:off x="7238880" y="304920"/>
            <a:ext cx="1467000" cy="14097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hypotension.jpg"/>
          <p:cNvPicPr/>
          <p:nvPr/>
        </p:nvPicPr>
        <p:blipFill>
          <a:blip r:embed="rId4"/>
          <a:stretch/>
        </p:blipFill>
        <p:spPr>
          <a:xfrm>
            <a:off x="1295280" y="3124080"/>
            <a:ext cx="175284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l, Im, In, I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; into; with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llumin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llustr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mpo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mmer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sp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scrib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spir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incarn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rradi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4" descr="reincarnate.jpg"/>
          <p:cNvPicPr/>
          <p:nvPr/>
        </p:nvPicPr>
        <p:blipFill>
          <a:blip r:embed="rId2"/>
          <a:stretch/>
        </p:blipFill>
        <p:spPr>
          <a:xfrm>
            <a:off x="3429000" y="2438280"/>
            <a:ext cx="1828800" cy="2210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immerse.jpg"/>
          <p:cNvPicPr/>
          <p:nvPr/>
        </p:nvPicPr>
        <p:blipFill>
          <a:blip r:embed="rId3"/>
          <a:stretch/>
        </p:blipFill>
        <p:spPr>
          <a:xfrm>
            <a:off x="7238880" y="2286000"/>
            <a:ext cx="1752840" cy="1438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illuminate.jpg"/>
          <p:cNvPicPr/>
          <p:nvPr/>
        </p:nvPicPr>
        <p:blipFill>
          <a:blip r:embed="rId4"/>
          <a:stretch/>
        </p:blipFill>
        <p:spPr>
          <a:xfrm>
            <a:off x="1523880" y="48769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illustrate.jpg"/>
          <p:cNvPicPr/>
          <p:nvPr/>
        </p:nvPicPr>
        <p:blipFill>
          <a:blip r:embed="rId5"/>
          <a:stretch/>
        </p:blipFill>
        <p:spPr>
          <a:xfrm>
            <a:off x="990720" y="274320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inscribe.jpg"/>
          <p:cNvPicPr/>
          <p:nvPr/>
        </p:nvPicPr>
        <p:blipFill>
          <a:blip r:embed="rId6"/>
          <a:stretch/>
        </p:blipFill>
        <p:spPr>
          <a:xfrm>
            <a:off x="7162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inspect.jpg"/>
          <p:cNvPicPr/>
          <p:nvPr/>
        </p:nvPicPr>
        <p:blipFill>
          <a:blip r:embed="rId7"/>
          <a:stretch/>
        </p:blipFill>
        <p:spPr>
          <a:xfrm>
            <a:off x="7086600" y="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2-23T22:38:05Z</dcterms:modified>
  <cp:revision>28</cp:revision>
  <dc:subject/>
  <dc:title>Roots List #1</dc:title>
</cp:coreProperties>
</file>